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9284-8AA4-4A03-992C-F9E455722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D9CA-AD03-4FD5-9C8F-C74D40D7C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4D77-DE4B-47CA-AC7B-B76D3484B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91A4-683E-4897-9EB5-DEBE77BA0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1430-8C19-4F2E-8A57-C95286585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9B87-8628-4BB7-B7C0-15F6C2D41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DB55-6E99-405C-AA9A-2BCEDF7B2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8BA1-7985-48D1-A225-AB3105DFF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368D-1B24-4D6B-9DCF-BF92096BC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6F46-836A-44AA-B6E7-8D94B1F7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0D61-FB39-43DE-BC57-F93CAF73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ABA8-F19E-4B57-93EA-FDC8FDA7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78953-8AB1-48F6-90B1-7299C618CF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deal Gas Law @ 2 Sets of Cond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00000" y="1484280"/>
            <a:ext cx="7417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en-US" sz="4000" spc="-1" strike="noStrike" u="sng" baseline="-25000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V</a:t>
            </a:r>
            <a:r>
              <a:rPr b="0" lang="en-US" sz="4000" spc="-1" strike="noStrike" u="sng" baseline="-25000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0" lang="en-US" sz="4000" spc="-1" strike="noStrike" u="sng" baseline="-25000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R T</a:t>
            </a:r>
            <a:r>
              <a:rPr b="0" lang="en-US" sz="4000" spc="-1" strike="noStrike" u="sng" baseline="-25000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42920" y="2060640"/>
            <a:ext cx="6624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 T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2924280"/>
            <a:ext cx="8964720" cy="35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yles’ Law  -constant Temperature and amount of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en-US" sz="3200" spc="-1" strike="noStrike" u="sng" baseline="-25000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V</a:t>
            </a:r>
            <a:r>
              <a:rPr b="0" lang="en-US" sz="3200" spc="-1" strike="noStrike" u="sng" baseline="-25000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0" lang="en-US" sz="3200" spc="-1" strike="noStrike" u="sng" baseline="-25000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 T</a:t>
            </a:r>
            <a:r>
              <a:rPr b="0" lang="en-US" sz="3200" spc="-1" strike="noStrike" u="sng" baseline="-25000">
                <a:solidFill>
                  <a:srgbClr val="000000"/>
                </a:solidFill>
                <a:uFillTx/>
                <a:latin typeface="Arial"/>
              </a:rPr>
              <a:t>1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941720"/>
            <a:ext cx="8604360" cy="25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les’ Law- constant Pressure and amount of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en-US" sz="2800" spc="-1" strike="noStrike" u="sng" baseline="-25000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V</a:t>
            </a:r>
            <a:r>
              <a:rPr b="0" lang="en-US" sz="2800" spc="-1" strike="noStrike" u="sng" baseline="-25000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0" lang="en-US" sz="2800" spc="-1" strike="noStrike" u="sng" baseline="-25000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 T</a:t>
            </a:r>
            <a:r>
              <a:rPr b="0" lang="en-US" sz="2800" spc="-1" strike="noStrike" u="sng" baseline="-25000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 baseline="-25000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=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V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1       T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19640" y="3645000"/>
            <a:ext cx="6476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4365720"/>
            <a:ext cx="6476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00360" y="3716280"/>
            <a:ext cx="35892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56000" y="443700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59280" y="3645000"/>
            <a:ext cx="36036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87640" y="4365720"/>
            <a:ext cx="28908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95640" y="4149720"/>
            <a:ext cx="576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71640" y="5589720"/>
            <a:ext cx="2156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00000" y="6165720"/>
            <a:ext cx="358920" cy="69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40000" y="5589720"/>
            <a:ext cx="21600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68360" y="6237360"/>
            <a:ext cx="216000" cy="62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5589720"/>
            <a:ext cx="1447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6165720"/>
            <a:ext cx="216000" cy="69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835280" y="5805360"/>
            <a:ext cx="1224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979640" y="6021360"/>
            <a:ext cx="1079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427640" y="3789360"/>
            <a:ext cx="1008000" cy="503280"/>
          </a:xfrm>
          <a:prstGeom prst="rightArrow">
            <a:avLst>
              <a:gd name="adj1" fmla="val 50000"/>
              <a:gd name="adj2" fmla="val 500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5950080"/>
            <a:ext cx="1584360" cy="574560"/>
          </a:xfrm>
          <a:prstGeom prst="rightArrow">
            <a:avLst>
              <a:gd name="adj1" fmla="val 50000"/>
              <a:gd name="adj2" fmla="val 6893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" dur="2000" fill="hold"/>
                                        <p:tgtEl>
                                          <p:spTgt spid="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ylinder contains 3.00 mol of nitrogen at a temp. of 10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and a pressure of 405.2 kPa in a volume of 23.0 L.  If the cylinder is heated to 40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and the volume expands to 50.0 L by moving out a piston, how many mol of nitrogen must be removed in order to lower pressure to 101.3 kP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71640" y="4581360"/>
            <a:ext cx="7416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405.2 kP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01.3k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42920" y="5013360"/>
            <a:ext cx="6337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23.0 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50.0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42920" y="5445000"/>
            <a:ext cx="7705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00 +273=373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400 +273=673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16000" y="5877000"/>
            <a:ext cx="691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3.00 m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42920" y="630864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= 8.3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Pa L/mol 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=8.3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Pa L/mol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en-US" sz="3200" spc="-1" strike="noStrike" u="sng" baseline="-25000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V</a:t>
            </a:r>
            <a:r>
              <a:rPr b="0" lang="en-US" sz="3200" spc="-1" strike="noStrike" u="sng" baseline="-25000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0" lang="en-US" sz="3200" spc="-1" strike="noStrike" u="sng" baseline="-25000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 T</a:t>
            </a:r>
            <a:r>
              <a:rPr b="0" lang="en-US" sz="3200" spc="-1" strike="noStrike" u="sng" baseline="-25000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 baseline="-25000">
                <a:solidFill>
                  <a:srgbClr val="000000"/>
                </a:solidFill>
                <a:uFillTx/>
                <a:latin typeface="Arial"/>
              </a:rPr>
              <a:t>405.2 kPa  x 23.0 L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1.3 kPa  x 50.0 L</a:t>
            </a:r>
            <a:r>
              <a:rPr b="0" lang="en-US" sz="3200" spc="-1" strike="noStrike" u="sng" baseline="-25000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3200" spc="-1" strike="noStrike" u="sng" baseline="-25000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1 kPa L/mol K x  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x 673 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 baseline="-25000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67240" y="3173400"/>
            <a:ext cx="566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8.31 kPa L/mol K  x 3.00 mol x 373 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95640" y="3068640"/>
            <a:ext cx="79236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76720" y="3213000"/>
            <a:ext cx="71928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3141720"/>
            <a:ext cx="64908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332000" y="3141720"/>
            <a:ext cx="36036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627280" y="3284640"/>
            <a:ext cx="14436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8459640" y="3213000"/>
            <a:ext cx="21600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1280" y="4292640"/>
            <a:ext cx="8137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272090.8  x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=  5667735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476360" y="5013360"/>
            <a:ext cx="4390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.90 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5734080"/>
            <a:ext cx="2017440" cy="719280"/>
          </a:xfrm>
          <a:prstGeom prst="rightArrow">
            <a:avLst>
              <a:gd name="adj1" fmla="val 50000"/>
              <a:gd name="adj2" fmla="val 701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7280" y="580536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00 mo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  0.90 mol = 2.1 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verage breath that a 16 year old takes when not exercising is about 300 mL in volume at 2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and 100.0kPa. The respiratory rate is about 20 breathes per minute.  What volume of air at STP does an average 16 year old breathe in one minu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076720" y="5950080"/>
            <a:ext cx="3888000" cy="90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27640" y="1989000"/>
            <a:ext cx="302400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en-US" sz="3200" spc="-1" strike="noStrike" u="sng" baseline="-25000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V</a:t>
            </a:r>
            <a:r>
              <a:rPr b="0" lang="en-US" sz="3200" spc="-1" strike="noStrike" u="sng" baseline="-25000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0" lang="en-US" sz="3200" spc="-1" strike="noStrike" u="sng" baseline="-25000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 T</a:t>
            </a:r>
            <a:r>
              <a:rPr b="0" lang="en-US" sz="3200" spc="-1" strike="noStrike" u="sng" baseline="-25000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3573360"/>
            <a:ext cx="7777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00 kPa x 0.3 L  = n</a:t>
            </a:r>
            <a:r>
              <a:rPr b="0" lang="en-US" sz="3200" spc="-1" strike="noStrike" u="sng" baseline="-25000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x 8.31 x 293 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4365720"/>
            <a:ext cx="7345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1.3 kPa x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 8.31  x 273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51280" y="3573360"/>
            <a:ext cx="43344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780000" y="4437000"/>
            <a:ext cx="57600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24360" y="2781360"/>
            <a:ext cx="360360" cy="792000"/>
          </a:xfrm>
          <a:prstGeom prst="downArrow">
            <a:avLst>
              <a:gd name="adj1" fmla="val 50000"/>
              <a:gd name="adj2" fmla="val 549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56000" y="2133720"/>
            <a:ext cx="324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moles does not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43280" y="3645000"/>
            <a:ext cx="57636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4292640"/>
            <a:ext cx="64764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00000" y="5229360"/>
            <a:ext cx="705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190  L    = 29680.9 x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00000" y="5734080"/>
            <a:ext cx="73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28L =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8190 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v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9680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48360" y="5877000"/>
            <a:ext cx="39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0 x 0.28= 5.6 breathes per 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3T01:09:40Z</dcterms:created>
  <dc:creator> </dc:creator>
  <dc:description/>
  <dc:language>en-US</dc:language>
  <cp:lastModifiedBy> </cp:lastModifiedBy>
  <dcterms:modified xsi:type="dcterms:W3CDTF">2005-06-03T02:26:50Z</dcterms:modified>
  <cp:revision>2</cp:revision>
  <dc:subject/>
  <dc:title>The Ideal Gas Law @ 2 Sets of Conditions</dc:title>
</cp:coreProperties>
</file>